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4E3-03A1-46B9-991F-9F2168BB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onstitutes 98-99% of the matter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57A-71A0-47AD-A68F-06F7D2DC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7EE-D9EE-4EF1-9232-03725C0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45D-3915-438E-ABFD-20C53045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A41-250F-4B01-98C7-523E5B49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78D-7DD9-4800-B56C-AD83006B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C343-BF6D-49C2-B373-4347A29A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258-4294-49BA-AF78-A5AC22BA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855-72CC-43D3-B2BA-7B0AE5B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423-B3D5-4F69-A02C-85B3BCC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2D7-D892-41A7-B966-273FB2DC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F97-2F69-4AE5-A674-3338010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97F-836F-4EF4-9AD2-952E2C2F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9C5-E04F-47AB-AD86-40F0A563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E69-3639-4C24-9E2B-B729A05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B20A-254E-4293-9102-A56F4F2F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68A-6397-494B-AD8A-3A70BE1C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A1DC-5480-43ED-9E9F-D2F3F87C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343B-2B4A-4FD4-B13B-3065E9D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C390-D605-45B3-BAF7-C7813C4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C857-A107-46D6-A16E-AB00EE0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DFA4-E7B7-4023-876B-FDAFEB3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DE19-41AA-4633-B8B8-7BFC2EF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7CD-11B9-4860-8094-AF5CAD0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A927-C2B9-432B-B513-BBD30A7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5431-77A5-4671-A559-84E14DD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8F69-B29E-410B-9108-5D7FB9D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53D6-6905-4023-8028-D4279B1E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9121-5FD2-4837-B82B-24CA75F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DB48-D410-49DD-9701-2B9F695A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FB2F-B385-4FAB-9420-CD0706D8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AB3-4F17-4E23-AE80-E6EF9495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D57-443B-4BC4-B608-480111F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4EA-2FCD-42D2-9189-B3113F0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6D8-6AD8-41CD-9748-88CE0AFB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275-223B-49A8-9F32-E6BE0EB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3BD-9F66-4A6F-BE54-A8D332E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8AE-E187-4CE0-9150-9BFE748EC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06B9-D805-4690-99CC-14583BA3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01F6-235F-4DC1-B5A2-8BB18E2A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../States%20of%20matter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does a traditional lesson look like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14800" y="3733920"/>
            <a:ext cx="406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Activity Evaluation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they learn abou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the students do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simple and affordabl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inquir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What does a cookbook lab look like?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74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e procedu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ed factual ques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correct explanation provided by teach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oblems with Cookbook Activitie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don’t have to thin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bjective becomes finishing the procedur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often little transfer from lab to theo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Activity Requirement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substantially inquiry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have to be an original idea, but you must contribute significant improv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take ~40 minute class peri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activity requires a longer time frame, you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scribe the additional steps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examples of the end products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ctivity write-up includes: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7920" y="1676160"/>
            <a:ext cx="632484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 / student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s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ctivity write-up includes: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activities and web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53895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2368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OOBLECK: </a:t>
            </a:r>
            <a:br>
              <a:rPr sz="5400"/>
            </a:b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 2 parts cornstarch and 1 part wat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ur the water into a Ziploc bag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food color to water (optional)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cornstarch a little bit at a time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ose bag and knead the contents as needed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have Oobleck when you can squeeze as a solid and pour as a liqu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a few drops of water if the Oobleck is crumbly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28600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GLURCH:</a:t>
            </a:r>
            <a:br>
              <a:rPr sz="5400"/>
            </a:b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r 1 tablespoon of Elmer’s Glue into a snack-size Ziploc bag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1 tablespoon of a saturated Borax sol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ood coloring (optiona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p the bag shut and begin kneading it to mix the cont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1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is may take a few minutes.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How to make a potentially boring topic even more boring.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67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How to make a potentially boring topic more interes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66880" y="533520"/>
            <a:ext cx="509436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3"/>
          </p:cNvPr>
          <p:cNvSpPr/>
          <p:nvPr/>
        </p:nvSpPr>
        <p:spPr>
          <a:xfrm>
            <a:off x="8381880" y="6248520"/>
            <a:ext cx="381240" cy="304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state is this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629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you expect if something i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solid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iquid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ga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So what state is this stuff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state is this?</a:t>
            </a:r>
            <a:br>
              <a:rPr sz="5400"/>
            </a:b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(more directed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with a magnifying le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ale gently on the shaving cre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 some between your fing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fully place a penny on top and obser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 overnight and observe again in the morn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teacher tip: Put shaving cream directly on the students’ desks. After they have observed it, they can use wet paper towels to clean their deskto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Are there really only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three states of matter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96200" cy="442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48520" y="1981080"/>
            <a:ext cx="21333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Choosing Your Activity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26T20:25:19Z</dcterms:modified>
  <cp:revision>41</cp:revision>
  <dc:subject/>
  <dc:title>Slide 1</dc:title>
</cp:coreProperties>
</file>